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81BB03-1307-42B6-9C66-F9ACB80D3C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567A8-7906-44F5-9E9B-1B336B70D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338482-8E5B-482F-AE67-B655A610FD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146782-CCB3-4C95-ABEE-7B248ACB23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D1D94-F438-4DBD-8714-3FF28ED36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18448-60DA-4971-9971-411C41DE6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09581-74F7-41F2-BA55-15970FC3A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D8E63-7B6A-44C9-820A-786B59058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8FB75-F085-4C88-88C6-0CA929D84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13A01-0B46-41A5-9A3B-443B06871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0DF59-F474-4BEE-A6A7-D6C2B1660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EF15D-3FCF-4A27-8CF1-105D40FC5B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470D1-0272-466E-9142-D26D81B6D6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ROMANĂ</a:t>
            </a:r>
            <a:endParaRPr b="0" lang="en-US" sz="1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240" y="3886200"/>
            <a:ext cx="71629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daptat după </a:t>
            </a:r>
            <a:r>
              <a:rPr b="0" i="1" lang="fr-FR" sz="1000" spc="-1" strike="noStrike">
                <a:solidFill>
                  <a:srgbClr val="000000"/>
                </a:solidFill>
                <a:latin typeface="Arial"/>
              </a:rPr>
              <a:t>Manualul de Istorie</a:t>
            </a:r>
            <a:r>
              <a:rPr b="0" lang="ro-RO" sz="1000" spc="-1" strike="noStrike">
                <a:solidFill>
                  <a:srgbClr val="000000"/>
                </a:solidFill>
                <a:latin typeface="Arial"/>
              </a:rPr>
              <a:t>,</a:t>
            </a:r>
            <a:r>
              <a:rPr b="0" lang="en-US" sz="1000" spc="-1" strike="noStrike">
                <a:solidFill>
                  <a:srgbClr val="000000"/>
                </a:solidFill>
                <a:latin typeface="Arial"/>
              </a:rPr>
              <a:t> </a:t>
            </a:r>
            <a:r>
              <a:rPr b="0" i="1" lang="fr-FR" sz="1000" spc="-1" strike="noStrike">
                <a:solidFill>
                  <a:srgbClr val="000000"/>
                </a:solidFill>
                <a:latin typeface="Arial"/>
              </a:rPr>
              <a:t>clasa a V-a</a:t>
            </a:r>
            <a:r>
              <a:rPr b="0" lang="fr-FR"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a:off x="2133720" y="3105000"/>
            <a:ext cx="48765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esiunea iunie-iulie</a:t>
            </a:r>
            <a:endParaRPr b="0" lang="en-US" sz="1800" spc="1" strike="noStrike">
              <a:ln w="9360">
                <a:solidFill>
                  <a:srgbClr val="000000"/>
                </a:solidFill>
                <a:miter/>
              </a:ln>
              <a:solidFill>
                <a:srgbClr val="ffffff"/>
              </a:solidFill>
              <a:latin typeface="Arial Black"/>
              <a:ea typeface="Arial Black"/>
            </a:endParaRPr>
          </a:p>
        </p:txBody>
      </p:sp>
    </p:spTree>
  </p:cSld>
  <p:transition advTm="5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ffff00"/>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raşul are sisteme de canalizare şi apeducte, sute de fântâni, terme, basilici, biblioteci publice, portice, străzi şi pieţe pietrui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pic>
        <p:nvPicPr>
          <p:cNvPr id="48" name="Picture 6" descr=""/>
          <p:cNvPicPr/>
          <p:nvPr/>
        </p:nvPicPr>
        <p:blipFill>
          <a:blip r:embed="rId1"/>
          <a:stretch/>
        </p:blipFill>
        <p:spPr>
          <a:xfrm>
            <a:off x="4952880" y="1447920"/>
            <a:ext cx="3600720" cy="3600360"/>
          </a:xfrm>
          <a:prstGeom prst="rect">
            <a:avLst/>
          </a:prstGeom>
          <a:ln w="0">
            <a:noFill/>
          </a:ln>
        </p:spPr>
      </p:pic>
    </p:spTree>
  </p:cSld>
  <p:transition advTm="5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it-IT" sz="1200" spc="-1" strike="noStrike">
                <a:solidFill>
                  <a:srgbClr val="000000"/>
                </a:solidFill>
                <a:latin typeface="Arial"/>
              </a:rPr>
              <a:t>Redaţi pe scurt semnificaţia următorilor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na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ebeu</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gistrat</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donaţi cronologic următoarele eveniment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ele lui Mariu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gile celor 12 tabl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a fraţilor Gracch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e urmări au avu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stituirea magistraturii de “tribun al plebe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tinderea cuceririlor romane în bazinul mediteranea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ificările introduse în conducerea statului de către Cezar şi Octavianus</a:t>
            </a:r>
            <a:endParaRPr b="0" lang="en-US" sz="1200" spc="-1" strike="noStrike">
              <a:solidFill>
                <a:srgbClr val="000000"/>
              </a:solidFill>
              <a:latin typeface="Arial"/>
            </a:endParaRPr>
          </a:p>
        </p:txBody>
      </p:sp>
    </p:spTree>
  </p:cSld>
  <p:transition advTm="5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14a3</cp:lastModifiedBy>
  <dcterms:modified xsi:type="dcterms:W3CDTF">2012-06-09T17:56:37Z</dcterms:modified>
  <cp:revision>4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